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605-B2A0-424A-BDEC-FE7140C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0F7-4A09-4530-9437-52E1851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62A-53EF-4B41-9924-23005200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73F-2FCC-4D23-AB81-05EE4E54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0FF2-E612-4529-BDF2-30A311F7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BECF-C577-440F-AF2F-5EAB7DC6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70F-23C9-499D-A84B-F5EE4779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E98-72FE-42D2-873A-F31E38A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5114-2E05-4B88-BCF1-B35810E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B65E-2504-4F9C-BFD1-F4EA391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36F-9CA1-4853-B7B8-A6A9440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10E-07FB-46D2-9DB2-B322D98B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982B-0B3C-4F10-83E5-3F7A3A9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38FB-D932-42AD-AE95-A7C8624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21C-F768-493B-9224-1DCE2C9E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2FFE-FF34-491B-A3C0-EA1A3ED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3962-7041-4969-8AD0-3315016C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DCA-9C46-4206-A0F5-940C7A7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A19-7757-40B4-B878-295C83AA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48F-D281-4E48-9355-BBCEBF8D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210-B6D3-473B-8388-590213E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18F-11CB-412F-B08E-825C873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410-DE67-4244-BC25-690674D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A27-230E-4A96-9A06-0141A99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837-4E6C-481F-A72E-B3701045DE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A8D-9261-478D-9DA4-312ADF3C9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enesis 40-4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 (Last Study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Favored By Father, Jac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Dreams of Grea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other’s Envy &amp;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Sold Into Slavery – 37:12-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s Framed By Potiphar’s Wife – 39: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n P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nterprets Dreams In Prison – 40: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tler Res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ker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oah’s Dreams – 41:1-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Years of Plenty Followed By Seven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Exalted To Second In Command – 41:46-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min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Brothers Come to Buy Grain 42:1-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Earlier Dreams Come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9:17:25Z</dcterms:created>
  <dc:creator>Terry W. Benton</dc:creator>
  <dc:description/>
  <dc:language>en-US</dc:language>
  <cp:lastModifiedBy>Terry W. Benton</cp:lastModifiedBy>
  <dcterms:modified xsi:type="dcterms:W3CDTF">2004-09-18T19:28:27Z</dcterms:modified>
  <cp:revision>1</cp:revision>
  <dc:subject/>
  <dc:title>Genesis 40-42</dc:title>
</cp:coreProperties>
</file>